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0BF-D85E-45A6-9E97-0C805DF3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ED1-2B0E-49BF-933A-D0F7EAF8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9B8-DE91-49B8-BC94-337ADC49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3C6-57ED-4C76-89A0-4F167FDB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B8B8-351D-422E-BA88-5B1DF99A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06EA-C745-4522-8AD7-22AABB77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5606-AE80-4A57-8F37-A65FC248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9580-F018-46F4-BDEC-7DAC17D7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CC9A-D04C-494E-8BCF-08FC7170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D100-489D-4450-B72A-B809D3B2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353C-02A7-4103-B94A-2B7D36FF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FD4-69B4-42E6-8D3F-F15E16DB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195D-382D-4267-ABC5-DDB8F6F2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96B3-7FD9-4E91-90AF-CDF17744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6216-50CA-42F6-A94E-D0EDEECD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0656-15AD-4A11-8788-C7CD9E43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ED32-A765-483A-B1E7-F7A9F7E5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D99-9016-4FAD-9ACF-A0DDD0D9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8E7-A5E6-4286-8761-D5F6C2C7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6BD-CD27-4A3D-84B9-D9DEFA32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49E-B0ED-400F-B79F-063E3D4F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3AE-3B92-4840-8DE9-30A0F7A1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E36-72DA-42B9-8301-CE25F067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E68-A0DC-4064-B957-496CB3AC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A4B9-62D1-467C-B747-20153D013C1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899E-9FAD-4154-B185-AE14B5150C8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247680" y="1096920"/>
            <a:ext cx="73580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f these sentences were in Greek, which case would the underlined word be 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lik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lecture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teacher'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voice is bo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am cooking for m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wife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studen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at many cak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have the books of 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fri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are making a hat f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the tut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hat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ssay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lass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nd too quick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5708520" y="205272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700600" y="259884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5708520" y="31114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5689440" y="36450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5702400" y="42022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5702400" y="47419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5703840" y="53071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5703840" y="58532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446144E8-3065-469D-ACB9-26E1A73AA2F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THE VO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DFB5EBB5-2C6A-4BCB-BD73-98B1E691C28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57200" y="160956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ich of these could be vocativ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2000160" y="2346480"/>
            <a:ext cx="25718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υἱ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eft Arrow 6"/>
          <p:cNvSpPr/>
          <p:nvPr/>
        </p:nvSpPr>
        <p:spPr>
          <a:xfrm>
            <a:off x="4246560" y="3214800"/>
            <a:ext cx="682560" cy="366480"/>
          </a:xfrm>
          <a:prstGeom prst="leftArrow">
            <a:avLst>
              <a:gd name="adj1" fmla="val 50000"/>
              <a:gd name="adj2" fmla="val 5003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eft Arrow 7"/>
          <p:cNvSpPr/>
          <p:nvPr/>
        </p:nvSpPr>
        <p:spPr>
          <a:xfrm>
            <a:off x="4233960" y="4467240"/>
            <a:ext cx="682560" cy="366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eft Arrow 8"/>
          <p:cNvSpPr/>
          <p:nvPr/>
        </p:nvSpPr>
        <p:spPr>
          <a:xfrm>
            <a:off x="4227480" y="5059440"/>
            <a:ext cx="682560" cy="366480"/>
          </a:xfrm>
          <a:prstGeom prst="leftArrow">
            <a:avLst>
              <a:gd name="adj1" fmla="val 50000"/>
              <a:gd name="adj2" fmla="val 5003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4154400" y="25131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4164120" y="375300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57B5A736-63D0-4E2D-86C3-D3BF320792E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857760" y="2016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3193920" y="220680"/>
            <a:ext cx="100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27"/>
          <p:cNvSpPr/>
          <p:nvPr/>
        </p:nvSpPr>
        <p:spPr>
          <a:xfrm>
            <a:off x="511200" y="1292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214200" y="1785960"/>
            <a:ext cx="4500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ω αὐ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ς λογους αὐτου διδασκ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ουσιν  αὐ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ω την φωνην αὐτ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αυλος καλει αὐτ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214200" y="4313160"/>
            <a:ext cx="49294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see the sl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keeps the ch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loves thei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4513320" y="18828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love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4506840" y="237024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is teaching his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4506840" y="2878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4500720" y="338292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ear her v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4500720" y="38782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ul is calling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4500720" y="4403880"/>
            <a:ext cx="400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ουσιν τον δου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4506840" y="4896000"/>
            <a:ext cx="400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ρει το τεκνον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4500720" y="5370480"/>
            <a:ext cx="46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ησους φιλει τα τεκνα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28760" y="1285920"/>
            <a:ext cx="9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ive the case and number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878360" y="2227320"/>
            <a:ext cx="38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4879800" y="2747880"/>
            <a:ext cx="34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857840" y="323208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4857840" y="371628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4857840" y="4226040"/>
            <a:ext cx="58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4857840" y="4721400"/>
            <a:ext cx="57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4857840" y="5207040"/>
            <a:ext cx="51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4857840" y="5695920"/>
            <a:ext cx="41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s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AAA588FA-DD94-491D-9F69-D2935C4EAFD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1571760" y="2155680"/>
            <a:ext cx="3214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οσμ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ομ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C9CE1644-03C5-4F3A-86B8-0D7062ECE71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42920" y="96840"/>
            <a:ext cx="862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PECIAL USES OF THE GENI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27"/>
          <p:cNvSpPr/>
          <p:nvPr/>
        </p:nvSpPr>
        <p:spPr>
          <a:xfrm>
            <a:off x="357120" y="1370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357120" y="2071800"/>
            <a:ext cx="442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ω του κυρι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 τον ἀγγελου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ομεν τῳ Χρισ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ετε τους λογ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They hear Go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I believe the lor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4929120" y="225252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ear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4929120" y="285768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sees the angel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29120" y="346248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ave faith in the Messi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4929120" y="4071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hear th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4929120" y="46944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υσιν τον θε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929120" y="531648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ω τῳ κυρι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27"/>
          <p:cNvSpPr/>
          <p:nvPr/>
        </p:nvSpPr>
        <p:spPr>
          <a:xfrm>
            <a:off x="414360" y="12142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280" y="1785960"/>
            <a:ext cx="63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χομεν τον νομον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δουλοι λαλουσιν τῳ κυρι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ζητω τον οἰκον του Χρισ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ιειτε ἀρτον τοις ἀδελφο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1280" y="464832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ὀχλος ἀκουει τον λογο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77760" y="541512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ει τον ἀγγελον κ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ει του ἀγγελ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867360" y="632448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A122719E-AC20-4DDB-B795-BCD0F8169C5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4929120" y="17859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We have the law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929120" y="219384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The slaves are spea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to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929120" y="300996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I am seeking the ho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of Ch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4948200" y="383688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You are making br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for the br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4941720" y="4635360"/>
            <a:ext cx="44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The crowd hear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word of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4929120" y="541008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She sees the angel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she listens to the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972BE919-EED8-4264-8482-A96908DC3DB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27"/>
          <p:cNvSpPr/>
          <p:nvPr/>
        </p:nvSpPr>
        <p:spPr>
          <a:xfrm>
            <a:off x="414360" y="12524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71280" y="1785960"/>
            <a:ext cx="63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στευει τῳ υἱῳ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ἀδελφος λυει δουλον τ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υρι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I teach the word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They hear the son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71280" y="406548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We keep the law of hea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1280" y="476568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You speak to the crow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4929120" y="17859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She believes the son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929120" y="219384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The slaves are spea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to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4948200" y="289728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δασκω τον λογον το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4948200" y="35924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ουσιν τον υἱ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4941720" y="4059360"/>
            <a:ext cx="44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ρουμεν τον νομον (του) ὀυραν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4941720" y="4813200"/>
            <a:ext cx="44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ις (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τε) τῳ ὀχλ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E3B3B176-CC7A-4D7E-B1C5-9C75CE3CEDE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21428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case and number are the following words in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857160" y="2071800"/>
            <a:ext cx="27860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π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ὐαγγελι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κ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η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αι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ιβλι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ψυχ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αιμονι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071960" y="2149560"/>
            <a:ext cx="40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071960" y="2668680"/>
            <a:ext cx="40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071960" y="316404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/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4071960" y="36892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4071960" y="4194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4071960" y="47023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4071960" y="51894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4070520" y="5695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82FAD73B-0DF3-493D-A941-640E42A7EEF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00040" y="1241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ich part of the definite article would agree with the following noun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785960" y="2189160"/>
            <a:ext cx="328608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π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χ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κ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ω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ερ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4832280" y="2273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4824360" y="277344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4826160" y="32749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4824360" y="37800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4827600" y="4289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824360" y="47941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4829040" y="53053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4827600" y="58309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CDC3FFDB-09FD-462F-B445-AC6CF269C4D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571680" y="1214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143000" y="1643040"/>
            <a:ext cx="40006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ιβλ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ἰκ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ων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3714840" y="1735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OR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3720960" y="22417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3714840" y="27655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3714840" y="328608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 Masculine OR Ne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3714840" y="37670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3714840" y="42609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 Femi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708360" y="47656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3701880" y="5286240"/>
            <a:ext cx="50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3713040" y="57927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1779E0D3-BCB2-487B-B4F5-822CD678F1E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571680" y="1285920"/>
            <a:ext cx="66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the article and noun in the following ag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1071720" y="1676520"/>
            <a:ext cx="35715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Χρισ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λα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ν ὡρ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 ἐρ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 εὐαγγελ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ν νομ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ς σημε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αυλ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ς  ἁμαρτιαν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4975200" y="177336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4954680" y="22622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962600" y="27734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4954680" y="33037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4962600" y="37987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4952880" y="43052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4952880" y="480708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4952880" y="532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4960800" y="583236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3:36:33Z</dcterms:created>
  <dc:creator>Sarah</dc:creator>
  <dc:description/>
  <dc:language>en-US</dc:language>
  <cp:lastModifiedBy>Sarah</cp:lastModifiedBy>
  <dcterms:modified xsi:type="dcterms:W3CDTF">2008-08-24T23:37:46Z</dcterms:modified>
  <cp:revision>71</cp:revision>
  <dc:subject/>
  <dc:title>Slide 1</dc:title>
</cp:coreProperties>
</file>